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7A2F-275A-4075-B7A6-1EF1CABBA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863F-C5C6-4F0A-BB80-BCAEB10C0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6C5F-AC2E-4DB3-9838-95D2EAED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1DEE-6AF1-4BA4-84A5-0F2B7267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FA6-1E99-49CA-AB07-8A47F8A1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6813-3791-45CE-9834-D121CF8E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EF01-7FE9-4E98-9513-A011B623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EFB6-858B-4A4F-B8DC-296A0CC4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985A-2E4D-4DCE-9D9A-BEF74942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8064-2896-40C4-8CFC-62A0859D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7A81-0141-4773-BC22-EE42C1F5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7F61-89B8-4A3C-AED7-F417BFBB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D668-3DE7-4F3B-B7C0-7A21BAC9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FD58-3CBE-4CD6-A0B3-ABBC6181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5F91-539B-452D-97EC-9B7296C9B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 rot="212736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646"/>
                </a:solidFill>
                <a:latin typeface="Calibri"/>
              </a:rPr>
              <a:t>Global Ed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4807"/>
                </a:solidFill>
                <a:latin typeface="Calibri"/>
              </a:rPr>
              <a:t>http://globaledge.msu.ed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4807"/>
                </a:solidFill>
                <a:latin typeface="Calibri"/>
              </a:rPr>
              <a:t>What does this website of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6c0a"/>
                </a:solidFill>
                <a:latin typeface="Calibri"/>
              </a:rPr>
              <a:t>Global Resources - more than 5,000 online resour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6c0a"/>
                </a:solidFill>
                <a:latin typeface="Calibri"/>
              </a:rPr>
              <a:t>Countries - a wealth of information on all count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6c0a"/>
                </a:solidFill>
                <a:latin typeface="Calibri"/>
              </a:rPr>
              <a:t>US States - a wealth of information on all US stat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6c0a"/>
                </a:solidFill>
                <a:latin typeface="Calibri"/>
              </a:rPr>
              <a:t>Industries - in-depth analysis of selected indust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6c0a"/>
                </a:solidFill>
                <a:latin typeface="Calibri"/>
              </a:rPr>
              <a:t>International Business Blog - insights on business around the worl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6c0a"/>
                </a:solidFill>
                <a:latin typeface="Calibri"/>
              </a:rPr>
              <a:t>Academy - extensive research and teaching resour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6c0a"/>
                </a:solidFill>
                <a:latin typeface="Calibri"/>
              </a:rPr>
              <a:t>Diagnostic Tools - decision-support tools for manag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6c0a"/>
                </a:solidFill>
                <a:latin typeface="Calibri"/>
              </a:rPr>
              <a:t>globalEDGE Network - connect with 47,034 registered us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5470" t="14582" r="7031" b="6250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0" t="15999" r="7548" b="5999"/>
          <a:stretch/>
        </p:blipFill>
        <p:spPr>
          <a:xfrm>
            <a:off x="228600" y="1066680"/>
            <a:ext cx="3733920" cy="2971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rcRect l="0" t="15094" r="7548" b="6919"/>
          <a:stretch/>
        </p:blipFill>
        <p:spPr>
          <a:xfrm>
            <a:off x="4419720" y="1066680"/>
            <a:ext cx="4038480" cy="2971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rcRect l="0" t="23686" r="8164" b="0"/>
          <a:stretch/>
        </p:blipFill>
        <p:spPr>
          <a:xfrm>
            <a:off x="152280" y="4191120"/>
            <a:ext cx="3810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Fa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s website is used by students interesting and that are into business and business owner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t provide solution for any business issue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92d050"/>
                </a:solidFill>
                <a:latin typeface="Calibri"/>
              </a:rPr>
              <a:t>Government/Consulting Agencies: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veloping government policie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paring other businesses for expansion into foreign market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stablishing best practices and aiding training    program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2d050"/>
                </a:solidFill>
                <a:latin typeface="Calibri"/>
              </a:rPr>
              <a:t>Business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Gauging the organization's global competitivene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ploring the compatibility of international venture partner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stablishing the ability to leverage resources when dealing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freight forwarders and distribu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8:06:57Z</dcterms:created>
  <dc:creator>ccstudent</dc:creator>
  <dc:description/>
  <dc:language>en-US</dc:language>
  <cp:lastModifiedBy>ccstudent</cp:lastModifiedBy>
  <dcterms:modified xsi:type="dcterms:W3CDTF">2011-02-06T18:41:26Z</dcterms:modified>
  <cp:revision>4</cp:revision>
  <dc:subject/>
  <dc:title>Global Edge</dc:title>
</cp:coreProperties>
</file>